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C14F4-F6BD-4B81-835F-3AAB9E11E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91699-C532-45FC-BDF4-1151C7E9A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F8768-6B99-4566-84C1-21A84C7A9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19516-A6C2-4382-9404-DF1F96332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E64429C-9DFE-4912-B025-133A6BA3A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1B465F-352A-44B8-BCD4-68FAB77AC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38BF8D-0B9A-443C-A8F0-F330AE61A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B4FE1B-5FFB-4A7C-B470-A2F7089C7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86B025-991E-4734-87C8-95775DED5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8078279-7123-4123-B2BC-5F90FC714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936115-B355-4E89-A268-65FE0426A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4DC43-4124-46B2-BCDA-1E2496B74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BE6DF5-F0ED-47F9-9AF2-1731BCA6A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232134-EFE2-4C37-98E6-B63A7AA52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8CDB78-FF3D-4C7F-92B1-28DE0DE38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1ABC6CD-DB4C-4602-A158-C254A95E7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E4948DC-52C6-493E-8F5B-E02447C33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571485-81DC-45D3-B0F1-58A6F78878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25449-5D2C-4364-8FD7-0F594B7CEE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EBB198-680D-43CB-859E-91582B9D38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7C7DB-5F3B-4795-8CE6-5251ED2CF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98BA2C-1B4F-46B4-8827-A46D4AE69F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B0808-6CFC-46BC-8958-0A776CE84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534C7-4BC7-4340-952F-D6F2699D9A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C0DBC-D16B-4F1A-BE70-F5F03875E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7CD9D-EB9D-4F1B-9030-0707421B5D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9DD1CB-C07B-4991-A091-64AE368DC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CE1DB-6CD0-4364-9B7C-A550D50BD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FF828C-B35A-4282-9B2E-60A964050D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DBFCF9-4581-4C6C-9F71-77CE99ABBF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59D5DA3-0991-4AEA-B6EB-93429A7AEAE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4F7E3B9-B454-4CDF-BE30-7A9BE482FA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545FDB9-1ED8-4672-88D8-ED700476BF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7FD34-3310-436B-826D-DB80650FC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92824E0-15A5-4D84-9135-9AB46E9A787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5CD5956-8214-4253-8BA2-B506807B761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E7A11B3-0753-4AF0-8501-77E936CB4F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C08A6D7-CA9A-4C91-A542-6463E9A790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0E9133B-232E-4B82-A2E5-9FB519E50B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A5D0390-E394-41B3-B864-9F97259A19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60616F7-FE80-48DC-A01F-2AE30FD277C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7D9EB174-C747-4014-BFE9-9665E9FFDEE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3E98995-BA83-44B9-859C-7706EFDA96E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BC227-55A1-47D0-B92F-00B87B3C4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B5194-5743-4D64-BE2C-9B21E484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A0DD-E5AD-48B5-A748-8C4FB027B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7118B-AD4E-4178-80A5-3BC0DCAFD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D5A3C-F041-40EF-8019-58F9660D2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9194-E458-4511-9917-33AEFDBC8E2F}"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E428-62FE-47D9-84E0-0AC5753219CD}"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EA51-25E8-4551-9414-9DFEA17AB347}"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EE97-3644-47FB-A8DB-C00BCEFEF69D}"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mart-words.org/transition-word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IMPROVE YOUR SKILLS FOR BOTH USING:</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BASIC READING INVENTORY</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THE 6+1 TRAITS OF WRITING</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GRAPHIC ORGANIZERS</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INTERNET RESEARCH</a:t>
            </a:r>
            <a:endParaRPr b="0" lang="en-US" sz="1400" spc="-1" strike="noStrike">
              <a:solidFill>
                <a:srgbClr val="ffffff"/>
              </a:solidFill>
              <a:latin typeface="Constantia"/>
            </a:endParaRPr>
          </a:p>
        </p:txBody>
      </p:sp>
      <p:pic>
        <p:nvPicPr>
          <p:cNvPr id="171" name="Title 1" descr=""/>
          <p:cNvPicPr/>
          <p:nvPr/>
        </p:nvPicPr>
        <p:blipFill>
          <a:blip r:embed="rId1"/>
          <a:stretch/>
        </p:blipFill>
        <p:spPr>
          <a:xfrm>
            <a:off x="457200" y="1432080"/>
            <a:ext cx="830880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
          <p:cNvSpPr/>
          <p:nvPr/>
        </p:nvSpPr>
        <p:spPr>
          <a:xfrm>
            <a:off x="990720" y="1859040"/>
            <a:ext cx="5867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stay focus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share original and fresh information or his/her perspective about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pi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get off the topic and start drif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Ideas/Content</a:t>
            </a: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lear</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trolling idea</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focused/ narrowe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ufficient inform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sightfu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rigin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teresting detail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mplete</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838080" y="1066680"/>
            <a:ext cx="6782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 is the internal structure of a piece of writing like the framework of a building. It is the road map which directs the reader through the paper, the thread of central meaning, the logical pattern of the ideas. Good organization helps a reader understand the writer’s message or follow the writing with ea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egin his/her writing with an inviting introduction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oks” the rea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Follow a logical and effective order, structure, &amp; sequ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Use smooth transitions that link key points and ide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lace supporting details where they are most appropri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nd his/her writing with a conclusion that gives the read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ense of resolution or something to think abo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1371600" y="838080"/>
            <a:ext cx="655308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al structure enhance or showcas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 idea or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 follow a logical sequen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al structure enhance or showcas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 idea or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 follow a logical sequenc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rganization</a:t>
            </a: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ppealing ope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direction/ logical progression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ffective sequen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nected-nes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mooth transition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ood pa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uilds to high point</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trong sense of conclusion</a:t>
            </a:r>
            <a:endParaRPr b="0" lang="en-US" sz="2400" spc="-1" strike="noStrike">
              <a:solidFill>
                <a:srgbClr val="fefac9"/>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91"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Word choice is the use of rich, colorful, precise language that moves and enlightens the reader.</a:t>
            </a:r>
            <a:endParaRPr b="0" lang="en-US" sz="20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Strong word choice clarifies and expands ideas.</a:t>
            </a:r>
            <a:endParaRPr b="0" lang="en-US" sz="20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Don’t tell me the moon is shining; show me the glint of light on broken glass.”</a:t>
            </a:r>
            <a:endParaRPr b="0" lang="en-US" sz="20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powerful action verbs (vivid verbs).</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specific descriptive nouns.</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adjectives that are as descriptive as possible.</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Be concise (tighten sentences).</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words correctly.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language that is natural and not overdone.</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figurative language – similes, metaphors, hyperbole.</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void repetition, slang, and clichés.</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609120"/>
            <a:ext cx="8229600" cy="5715000"/>
          </a:xfrm>
          <a:prstGeom prst="rect">
            <a:avLst/>
          </a:prstGeom>
          <a:noFill/>
          <a:ln w="0">
            <a:noFill/>
          </a:ln>
        </p:spPr>
        <p:txBody>
          <a:bodyPr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Begin by showing students a simple, unadorned but complete sentence. Example: "I went for a walk." </a:t>
            </a:r>
            <a:br>
              <a:rPr sz="2600"/>
            </a:br>
            <a:br>
              <a:rPr sz="2600"/>
            </a:br>
            <a:r>
              <a:rPr b="0" lang="en-US" sz="2600" spc="-1" strike="noStrike">
                <a:solidFill>
                  <a:srgbClr val="ffffff"/>
                </a:solidFill>
                <a:latin typeface="Constantia"/>
              </a:rPr>
              <a:t>2) Ask students to verbalize the questions a sentence like this hopefully brings to their minds--Where did you go? Were you alone? Why did you go on this walk? What did you see or do on this walk? When did you go? Did you come back? </a:t>
            </a:r>
            <a:br>
              <a:rPr sz="2600"/>
            </a:br>
            <a:br>
              <a:rPr sz="2600"/>
            </a:br>
            <a:r>
              <a:rPr b="0" lang="en-US" sz="2600" spc="-1" strike="noStrike">
                <a:solidFill>
                  <a:srgbClr val="ffffff"/>
                </a:solidFill>
                <a:latin typeface="Constantia"/>
              </a:rPr>
              <a:t>3) Using these ideas, students will then add some life to the sentence-details, description, etc.-to help it become a "super sentence." Example: "Last night, my dog Rufus and I took a long walk through the dark woods." </a:t>
            </a:r>
            <a:br>
              <a:rPr sz="2600"/>
            </a:br>
            <a:r>
              <a:rPr b="0" lang="en-US" sz="2600" spc="-1" strike="noStrike">
                <a:solidFill>
                  <a:srgbClr val="ffffff"/>
                </a:solidFill>
                <a:latin typeface="Constantia"/>
              </a:rPr>
              <a:t> </a:t>
            </a:r>
            <a:endParaRPr b="0" lang="en-US" sz="2600" spc="-1" strike="noStrike">
              <a:solidFill>
                <a:srgbClr val="ffffff"/>
              </a:solidFill>
              <a:latin typeface="Constantia"/>
            </a:endParaRPr>
          </a:p>
        </p:txBody>
      </p:sp>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 the words &amp; phrases create vivid pictures in the reader’s min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ave I used any new word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try not to repeat words too many times?</a:t>
            </a:r>
            <a:endParaRPr b="0" lang="en-US" sz="2600" spc="-1" strike="noStrike">
              <a:solidFill>
                <a:srgbClr val="ffffff"/>
              </a:solidFill>
              <a:latin typeface="Constantia"/>
            </a:endParaRPr>
          </a:p>
        </p:txBody>
      </p:sp>
      <p:sp>
        <p:nvSpPr>
          <p:cNvPr id="1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atur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tive, energetic verb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cise, concrete nouns &amp; modifier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ew twists on everyday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inimal redundancy (repetitive, unnecessary)</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curacy of express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aints pictures</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9"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nk for transitional words/phrases</a:t>
            </a:r>
            <a:endParaRPr b="0" lang="en-US" sz="2600" spc="-1" strike="noStrike">
              <a:solidFill>
                <a:srgbClr val="ffffff"/>
              </a:solidFill>
              <a:latin typeface="Constantia"/>
            </a:endParaRPr>
          </a:p>
        </p:txBody>
      </p:sp>
      <p:sp>
        <p:nvSpPr>
          <p:cNvPr id="200" name="Rectangle 4"/>
          <p:cNvSpPr/>
          <p:nvPr/>
        </p:nvSpPr>
        <p:spPr>
          <a:xfrm>
            <a:off x="2007360" y="3246480"/>
            <a:ext cx="512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e58b6"/>
                </a:solidFill>
                <a:uFillTx/>
                <a:latin typeface="Arial"/>
                <a:hlinkClick r:id="rId1"/>
              </a:rPr>
              <a:t>http://www.smart-words.org/transition-word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23880"/>
            <a:ext cx="82296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basic reading inventory focuses on five areas:</a:t>
            </a:r>
            <a:endParaRPr b="0" lang="en-US" sz="2600" spc="-1" strike="noStrike">
              <a:solidFill>
                <a:srgbClr val="ffffff"/>
              </a:solidFill>
              <a:latin typeface="Constantia"/>
            </a:endParaRPr>
          </a:p>
          <a:p>
            <a:pP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honemic awareness</a:t>
            </a:r>
            <a:endParaRPr b="0" lang="en-US" sz="2600" spc="-1" strike="noStrike">
              <a:solidFill>
                <a:srgbClr val="ffffff"/>
              </a:solidFill>
              <a:latin typeface="Constantia"/>
            </a:endParaRPr>
          </a:p>
          <a:p>
            <a:pP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honics</a:t>
            </a: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luency</a:t>
            </a: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ocabulary </a:t>
            </a: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mprehension</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last three will be the main area of focus</a:t>
            </a:r>
            <a:endParaRPr b="0" lang="en-US" sz="2600" spc="-1" strike="noStrike">
              <a:solidFill>
                <a:srgbClr val="ffffff"/>
              </a:solidFill>
              <a:latin typeface="Constantia"/>
            </a:endParaRPr>
          </a:p>
        </p:txBody>
      </p:sp>
      <p:pic>
        <p:nvPicPr>
          <p:cNvPr id="173" name="Title 1" descr=""/>
          <p:cNvPicPr/>
          <p:nvPr/>
        </p:nvPicPr>
        <p:blipFill>
          <a:blip r:embed="rId1"/>
          <a:stretch/>
        </p:blipFill>
        <p:spPr>
          <a:xfrm>
            <a:off x="225360" y="152280"/>
            <a:ext cx="8461440" cy="150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202"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entence fluency is the rhythm and flow of the language, the sound of word patterns, the way the writing plays to the ear, not just to the eye.</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To me the greatest pleasure of writing is not what it’s about, but the music the words make.”   </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 writer should:</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Vary the length of sentence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different sentence structures or pattern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Begin the sentence in different way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complete sentences – any fragments must add to the </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meaning of the text.</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language that sounds natural.</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Give the writing an easy flow and rhythm.</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an you FEEL the words and phrases flow </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together as you read it alou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206" name="PlaceHolder 2"/>
          <p:cNvSpPr>
            <a:spLocks noGrp="1"/>
          </p:cNvSpPr>
          <p:nvPr>
            <p:ph/>
          </p:nvPr>
        </p:nvSpPr>
        <p:spPr>
          <a:xfrm>
            <a:off x="457200" y="1447560"/>
            <a:ext cx="8229600" cy="4678200"/>
          </a:xfrm>
          <a:prstGeom prst="rect">
            <a:avLst/>
          </a:prstGeom>
          <a:noFill/>
          <a:ln w="0">
            <a:noFill/>
          </a:ln>
        </p:spPr>
        <p:txBody>
          <a:bodyPr anchor="t">
            <a:normAutofit/>
          </a:bodyPr>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heck list:</a:t>
            </a:r>
            <a:endParaRPr b="0" lang="en-US" sz="2400" spc="-1" strike="noStrike">
              <a:solidFill>
                <a:srgbClr val="fefac9"/>
              </a:solidFill>
              <a:latin typeface="Constantia"/>
            </a:endParaRPr>
          </a:p>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ive, memorable word combinations graceful, easy to read alou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atural, pleasant rhythm</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variety in length, type &amp; structure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tructure enhances mea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ffective, smooth phrasing</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10"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It is the heart and soul of the writing, the magic, the wit, the feeling and conviction of the writer coming through the words; it is the personality of the writer coming through on the page. It is what gives the reader the feeling that the writer is talking directly to you.</a:t>
            </a: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A writer should:</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Write honestly and from the heart.</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Connect and interact with the reader.</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Care about topic. </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Speak directly to the reader in a way that is individual,</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compelling and engaging.</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Keep the reader interested in the topic.</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Share his/her feelings about the topic.</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Use language that brings the topic to life for the reader.</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Use expression to voice personality. </a:t>
            </a: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2"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the writing sound like m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say what I think and fee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my writing have energy and pass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1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person behind the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riter is committed/involved with topic</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reaches out/connects to audienc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nergetic, lively, consistent ton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efinite point of view</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18" name="PlaceHolder 2"/>
          <p:cNvSpPr>
            <a:spLocks noGrp="1"/>
          </p:cNvSpPr>
          <p:nvPr>
            <p:ph/>
          </p:nvPr>
        </p:nvSpPr>
        <p:spPr>
          <a:xfrm>
            <a:off x="457200" y="1447560"/>
            <a:ext cx="8229600" cy="4678200"/>
          </a:xfrm>
          <a:prstGeom prst="rect">
            <a:avLst/>
          </a:prstGeom>
          <a:noFill/>
          <a:ln w="0">
            <a:noFill/>
          </a:ln>
        </p:spPr>
        <p:txBody>
          <a:bodyPr anchor="t">
            <a:normAutofit fontScale="99000"/>
          </a:bodyPr>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Conventions are the rules of the language. They are the common patterns of grammar and usage, spelling, punctuation, paragraphing (indenting) and capitalization that readers expect in good writing. They make writing easy to read and understand. </a:t>
            </a:r>
            <a:endParaRPr b="0" lang="en-US" sz="2000" spc="-1" strike="noStrike">
              <a:solidFill>
                <a:srgbClr val="ffffff"/>
              </a:solidFill>
              <a:latin typeface="Constantia"/>
            </a:endParaRPr>
          </a:p>
          <a:p>
            <a:pPr marL="27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                               </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Proofread and edit the paper.</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Use capitalization correctly.</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Make sure all spelling is corrected.</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Correct all grammar and punctuation.</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Reinforce the organization with good paragraphing.</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Turn in a clean, edited, and polished final draft.</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Good ideas could be overshadowed by errors in conventions</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that distract the reader. This trait is essential to a polished composition.</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20"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ffective use of conjunctions &amp; transitions correct spell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rrect/effective punctu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ppropriate grammar/ usag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rrect capitaliz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esigned to make reading easy</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762120" y="914400"/>
            <a:ext cx="79246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I will be checking you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independent reading level</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frustration level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strategies for word identification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fluency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strengths and weaknesses in comprehension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is will help determine where you are as a rea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9f9f9"/>
                </a:solidFill>
                <a:latin typeface="Constantia"/>
              </a:rPr>
              <a:t>The Two Faces of the Traits</a:t>
            </a:r>
            <a:endParaRPr b="0" lang="en-US" sz="4200" spc="-1" strike="noStrike">
              <a:solidFill>
                <a:srgbClr val="f9f9f9"/>
              </a:solidFill>
              <a:latin typeface="Constantia"/>
            </a:endParaRPr>
          </a:p>
        </p:txBody>
      </p:sp>
      <p:sp>
        <p:nvSpPr>
          <p:cNvPr id="222" name="PlaceHolder 2"/>
          <p:cNvSpPr>
            <a:spLocks noGrp="1"/>
          </p:cNvSpPr>
          <p:nvPr>
            <p:ph/>
          </p:nvPr>
        </p:nvSpPr>
        <p:spPr>
          <a:xfrm>
            <a:off x="380880" y="137124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REATIVE, PERSONAL FACE:</a:t>
            </a:r>
            <a:r>
              <a:rPr b="1" lang="en-US" sz="3500" spc="-1" strike="noStrike" u="sng">
                <a:solidFill>
                  <a:srgbClr val="ffffff"/>
                </a:solidFill>
                <a:uFillTx/>
                <a:latin typeface="Constantia"/>
              </a:rPr>
              <a:t>  </a:t>
            </a:r>
            <a:br>
              <a:rPr sz="3500"/>
            </a:br>
            <a:r>
              <a:rPr b="1" lang="en-US" sz="3500" spc="-1" strike="noStrike">
                <a:solidFill>
                  <a:srgbClr val="ffffff"/>
                </a:solidFill>
                <a:latin typeface="Constantia"/>
              </a:rPr>
              <a:t>Does the flow of the writing keep you reading?</a:t>
            </a: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onstantia"/>
              </a:rPr>
              <a:t> </a:t>
            </a:r>
            <a:r>
              <a:rPr b="1" lang="en-US" sz="2600" spc="-1" strike="noStrike">
                <a:solidFill>
                  <a:srgbClr val="ffffff"/>
                </a:solidFill>
                <a:latin typeface="Constantia"/>
              </a:rPr>
              <a:t>INFORMATIONAL FACE:</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onstantia"/>
              </a:rPr>
              <a:t>Does organization help you understand key points or issues?</a:t>
            </a: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The Two Faces of the Traits</a:t>
            </a:r>
            <a:endParaRPr b="0" lang="en-US" sz="4200" spc="-1" strike="noStrike">
              <a:solidFill>
                <a:srgbClr val="f9f9f9"/>
              </a:solidFill>
              <a:latin typeface="Constantia"/>
            </a:endParaRPr>
          </a:p>
        </p:txBody>
      </p:sp>
      <p:sp>
        <p:nvSpPr>
          <p:cNvPr id="22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reative, Pers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Hooks the reader</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lear transition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Wow of an ending</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Main Point</a:t>
            </a: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ati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To-the-point lead</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onnecting structur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s and educate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Ending reinforces main point</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verall-The Paper</a:t>
            </a: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8229600" cy="46782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heck list:</a:t>
            </a:r>
            <a:endParaRPr b="0" lang="en-US" sz="1700" spc="-1" strike="noStrike">
              <a:solidFill>
                <a:srgbClr val="ffffff"/>
              </a:solidFill>
              <a:latin typeface="Constantia"/>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has an effective beginning, middle, and end.</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uses paragraphing effectively.</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a strong controlling idea.</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progresses in a logical order.</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uses effective cohesive devices (such as transitions, repetition, pronouns, parallel structure) between and within paragraphs</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learly addresses the topic and provides convincing elaboration through specific and relevant details, reasons, and examples.</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uses precise and vivid languag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sentences that are clear and varied in structur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effectively uses writing techniques (such as imagery, humor, point of view, voic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shows complexity, freshness of thought, and individual perspectiv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learly shows an awareness of audience and purpos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few errors in grammar/usage, punctuation, capitalization, and/or spelling.</a:t>
            </a: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1"/>
          <p:cNvSpPr/>
          <p:nvPr/>
        </p:nvSpPr>
        <p:spPr>
          <a:xfrm>
            <a:off x="380880" y="660240"/>
            <a:ext cx="8382240" cy="60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hy writing is import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expresses who you are as a person.</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portable and permanent and makes your thinking visible.</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helps you move easily among facts, inferences, and opinions without getting confused, and without confusing your read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deas down preserves them so that you can reflect upon them lat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provides you with the communication and thinking skills you need to participate effectively in society.</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an essential job skil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
          <p:cNvSpPr/>
          <p:nvPr/>
        </p:nvSpPr>
        <p:spPr>
          <a:xfrm>
            <a:off x="762120" y="1143000"/>
            <a:ext cx="72388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6 + 1 Traits of Writ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deas/content</a:t>
            </a:r>
            <a:r>
              <a:rPr b="0" lang="en-US" sz="1800" spc="-1" strike="noStrike">
                <a:solidFill>
                  <a:srgbClr val="ffffff"/>
                </a:solidFill>
                <a:latin typeface="Constantia"/>
              </a:rPr>
              <a:t>-the heart of the message, the content of the piece, the main theme, with details that enrich and develop that them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Organization</a:t>
            </a:r>
            <a:r>
              <a:rPr b="0" lang="en-US" sz="1800" spc="-1" strike="noStrike">
                <a:solidFill>
                  <a:srgbClr val="ffffff"/>
                </a:solidFill>
                <a:latin typeface="Constantia"/>
              </a:rPr>
              <a:t>-the internal structure (the roadmap), the thread of central meaning, the logical and sometimes intriguing pattern of idea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Voice</a:t>
            </a:r>
            <a:r>
              <a:rPr b="0" lang="en-US" sz="1800" spc="-1" strike="noStrike">
                <a:solidFill>
                  <a:srgbClr val="ffffff"/>
                </a:solidFill>
                <a:latin typeface="Constantia"/>
              </a:rPr>
              <a:t>-the heart and soul, magic, wit, feeling and conviction of the writer coming out</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d choice-</a:t>
            </a:r>
            <a:r>
              <a:rPr b="0" lang="en-US" sz="1800" spc="-1" strike="noStrike">
                <a:solidFill>
                  <a:srgbClr val="ffffff"/>
                </a:solidFill>
                <a:latin typeface="Constantia"/>
              </a:rPr>
              <a:t>the use of rich, colorful, precise language that moves and enlightens the reader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entence fluency-</a:t>
            </a:r>
            <a:r>
              <a:rPr b="0" lang="en-US" sz="1800" spc="-1" strike="noStrike">
                <a:solidFill>
                  <a:srgbClr val="ffffff"/>
                </a:solidFill>
                <a:latin typeface="Constantia"/>
              </a:rPr>
              <a:t>the rhythm and flow of the language, the sound of word patterns, the way in which the writing plays to the ear, not just to the ey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onventions</a:t>
            </a:r>
            <a:r>
              <a:rPr b="0" lang="en-US" sz="1800" spc="-1" strike="noStrike">
                <a:solidFill>
                  <a:srgbClr val="ffffff"/>
                </a:solidFill>
                <a:latin typeface="Constantia"/>
              </a:rPr>
              <a:t>-the mechanical correctness of the piece; spelling, grammar, and usage, paragraphing, use of capitals and punctu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esentations</a:t>
            </a:r>
            <a:r>
              <a:rPr b="0" lang="en-US" sz="1800" spc="-1" strike="noStrike">
                <a:solidFill>
                  <a:srgbClr val="ffffff"/>
                </a:solidFill>
                <a:latin typeface="Constantia"/>
              </a:rPr>
              <a:t>-the culmination all, the sharing with outside read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2"/>
          <p:cNvSpPr/>
          <p:nvPr/>
        </p:nvSpPr>
        <p:spPr>
          <a:xfrm>
            <a:off x="1295280" y="895320"/>
            <a:ext cx="70866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rubric based on the traits </a:t>
            </a:r>
            <a:r>
              <a:rPr b="0" lang="en-US" sz="1800" spc="-1" strike="noStrike">
                <a:solidFill>
                  <a:srgbClr val="ffffff"/>
                </a:solidFill>
                <a:latin typeface="Arial"/>
              </a:rPr>
              <a:t>will be used as an assessment tool </a:t>
            </a:r>
            <a:r>
              <a:rPr b="0" lang="en-US" sz="1800" spc="-1" strike="noStrike">
                <a:solidFill>
                  <a:srgbClr val="ffffff"/>
                </a:solidFill>
                <a:latin typeface="Constantia"/>
              </a:rPr>
              <a:t>for various written work. The key questions asked to ensure that the writing meets the expectations ar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deas</a:t>
            </a:r>
            <a:r>
              <a:rPr b="0" lang="en-US" sz="1800" spc="-1" strike="noStrike">
                <a:solidFill>
                  <a:srgbClr val="ffffff"/>
                </a:solidFill>
                <a:latin typeface="Constantia"/>
              </a:rPr>
              <a:t>- Did I stay focused and share original and fresh information or perspectives about my topic?</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Organization</a:t>
            </a:r>
            <a:r>
              <a:rPr b="0" lang="en-US" sz="1800" spc="-1" strike="noStrike">
                <a:solidFill>
                  <a:srgbClr val="ffffff"/>
                </a:solidFill>
                <a:latin typeface="Constantia"/>
              </a:rPr>
              <a:t>- Does the organizational structure enhance my ideas and make it easier to understand?</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Voice- </a:t>
            </a:r>
            <a:r>
              <a:rPr b="0" lang="en-US" sz="1800" spc="-1" strike="noStrike">
                <a:solidFill>
                  <a:srgbClr val="ffffff"/>
                </a:solidFill>
                <a:latin typeface="Constantia"/>
              </a:rPr>
              <a:t>Would I keep reading this paper if it were longer? </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d choice-</a:t>
            </a:r>
            <a:r>
              <a:rPr b="0" lang="en-US" sz="1800" spc="-1" strike="noStrike">
                <a:solidFill>
                  <a:srgbClr val="ffffff"/>
                </a:solidFill>
                <a:latin typeface="Constantia"/>
              </a:rPr>
              <a:t> Do my words and phrases create vivid pictures and linger in the reader’s mind?</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entence fluency- </a:t>
            </a:r>
            <a:r>
              <a:rPr b="0" lang="en-US" sz="1800" spc="-1" strike="noStrike">
                <a:solidFill>
                  <a:srgbClr val="ffffff"/>
                </a:solidFill>
                <a:latin typeface="Constantia"/>
              </a:rPr>
              <a:t>Can you feel the words and phrases flow together as you read?</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onventions- </a:t>
            </a:r>
            <a:r>
              <a:rPr b="0" lang="en-US" sz="1800" spc="-1" strike="noStrike">
                <a:solidFill>
                  <a:srgbClr val="ffffff"/>
                </a:solidFill>
                <a:latin typeface="Constantia"/>
              </a:rPr>
              <a:t>How much editing would have to be done to be ready to share with an outside reader?</a:t>
            </a:r>
            <a:r>
              <a:rPr b="1" lang="en-US" sz="1800" spc="-1" strike="noStrike">
                <a:solidFill>
                  <a:srgbClr val="ffffff"/>
                </a:solidFill>
                <a:latin typeface="Constantia"/>
              </a:rPr>
              <a:t> </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esentation- </a:t>
            </a:r>
            <a:r>
              <a:rPr b="0" lang="en-US" sz="1800" spc="-1" strike="noStrike">
                <a:solidFill>
                  <a:srgbClr val="ffffff"/>
                </a:solidFill>
                <a:latin typeface="Constantia"/>
              </a:rPr>
              <a:t>Have I retained, and do I understand what I have written so I can share it with outside listener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3"/>
          <p:cNvSpPr/>
          <p:nvPr/>
        </p:nvSpPr>
        <p:spPr>
          <a:xfrm>
            <a:off x="914400" y="1219320"/>
            <a:ext cx="73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variety of graphic organizers will be introduced for use during the writing process; they will help with organization.  They can also be a useful tool when researching information for projects. </a:t>
            </a:r>
            <a:endParaRPr b="0" lang="en-US" sz="1800" spc="-1" strike="noStrike">
              <a:solidFill>
                <a:srgbClr val="ffffff"/>
              </a:solidFill>
              <a:latin typeface="Arial"/>
            </a:endParaRPr>
          </a:p>
        </p:txBody>
      </p:sp>
      <p:sp>
        <p:nvSpPr>
          <p:cNvPr id="179" name="TextBox 5"/>
          <p:cNvSpPr/>
          <p:nvPr/>
        </p:nvSpPr>
        <p:spPr>
          <a:xfrm>
            <a:off x="939960" y="2438280"/>
            <a:ext cx="655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hen researching, it is required that sources be cited when information is  “borrowed” or obtained from an internet sour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worksheet will be available, along with other strategies/tools to keep track of the web sites, and pertinent information that will be needed to create a work cited page for proje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1"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earning the Traits One by On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2286000" y="33660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eas/Cont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deas are the heart of the message, the content of the piece, together with strong, clear and interesting details that enrich and develop the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Narrow the topic to something specifi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clude fresh, original ide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tick to a clear, central theme that drives the writ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laborate the main idea with plenty of infor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Use important, interesting supporting detai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Develop the topic in an interesting 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Use Lots of </a:t>
            </a:r>
            <a:r>
              <a:rPr b="0" i="1" lang="en-US" sz="1800" spc="-1" strike="noStrike" u="sng">
                <a:solidFill>
                  <a:srgbClr val="ffffff"/>
                </a:solidFill>
                <a:uFillTx/>
                <a:latin typeface="Arial"/>
              </a:rPr>
              <a:t>showing</a:t>
            </a:r>
            <a:r>
              <a:rPr b="0" lang="en-US" sz="1800" spc="-1" strike="noStrike">
                <a:solidFill>
                  <a:srgbClr val="ffffff"/>
                </a:solidFill>
                <a:latin typeface="Arial"/>
              </a:rPr>
              <a:t> (specific) rather than </a:t>
            </a:r>
            <a:r>
              <a:rPr b="0" i="1" lang="en-US" sz="1800" spc="-1" strike="noStrike" u="sng">
                <a:solidFill>
                  <a:srgbClr val="ffffff"/>
                </a:solidFill>
                <a:uFillTx/>
                <a:latin typeface="Arial"/>
              </a:rPr>
              <a:t>telling</a:t>
            </a:r>
            <a:r>
              <a:rPr b="0" lang="en-US" sz="1800" spc="-1" strike="noStrike">
                <a:solidFill>
                  <a:srgbClr val="ffffff"/>
                </a:solidFill>
                <a:latin typeface="Arial"/>
              </a:rPr>
              <a:t> (generalit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tay in control of the topic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6:28:36Z</dcterms:created>
  <dc:creator>Spriggs, Penny</dc:creator>
  <dc:description/>
  <dc:language>en-US</dc:language>
  <cp:lastModifiedBy>Spriggs, Penny</cp:lastModifiedBy>
  <dcterms:modified xsi:type="dcterms:W3CDTF">2011-11-08T15:08:58Z</dcterms:modified>
  <cp:revision>39</cp:revision>
  <dc:subject/>
  <dc:title>READING AND WRITING:</dc:title>
</cp:coreProperties>
</file>